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08F4-E59A-4D78-BD10-1768A277E7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3A4-7F1C-4896-9873-3318F1FC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A9C-0CF6-4165-947D-4E2C71B9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4EE-F833-4194-A564-7C4B1390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FEF-0621-4053-AE78-D246151A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E9A9-758B-4B1F-A733-117C6038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EE00-0F9C-4543-840C-D5B3F6AE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7FDC-14DF-4789-867B-81B3883B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1F74-396D-4E43-93DF-0D733223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EAA1-2621-4D6A-806B-EE818E89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238-41A0-4CDC-ADDB-F02AF273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3A14-EDC7-43D9-8908-514A6864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045-292A-41EE-9D9D-B190F177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213A-D816-4AF4-8737-52BEFD7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A272-154B-432E-A2CA-C8041EF7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194-4382-4BA6-89C5-6162DCE0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7252-749B-448F-9AD3-0BEB491A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352F-EBD8-447B-8DFD-102B3B40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156-444D-4026-A9F4-6A504CC8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BA5-BD75-4821-95D7-94405CE0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232-1DC0-45AB-BE60-E8B5B184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69F-B837-460D-B4A0-B0AF546B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D6B-27A9-4ACC-9090-B17A081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4F3-EE1B-405B-806A-72FC95B0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C12-5C35-4795-BEF5-0C90D717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F007-57A5-4A00-9D4D-600C5CD40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11C3-A118-4ED6-822B-E967A4C9FF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riting A Good Ess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Good Essay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Beginning, Middle and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learly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Essay Is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ritten speech, used to talk about a given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eginn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3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-Intro and a main overview of the main, and primary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-Thesis Statement (a statement that proves a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-Lead or conversion to start you bod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o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is the main section of the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put into 1 or many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s about the subjects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ragraph is a different sub-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ll info. being 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nding paragraph sums up the entir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Ending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r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 Thesi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touch on every topic in your essay in the last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essays, the Ending paragraph is what people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07:12Z</dcterms:created>
  <dc:creator>Ben Swanson</dc:creator>
  <dc:description/>
  <dc:language>en-US</dc:language>
  <cp:lastModifiedBy>RomaK</cp:lastModifiedBy>
  <dcterms:modified xsi:type="dcterms:W3CDTF">2015-09-02T09:49:12Z</dcterms:modified>
  <cp:revision>4</cp:revision>
  <dc:subject/>
  <dc:title>Writing A Good Essay</dc:title>
</cp:coreProperties>
</file>